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.gif" ContentType="image/gif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00BF-9BD6-4F37-A069-5296EE2DF6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ructure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diagram –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and guar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diagram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and guar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oma 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is a small ho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s size is controlled by 2 guar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is a small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size is controlled by 2 guar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function is for gas exchange in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uar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vided plant is photosynthesis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function is for gas exchange in the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d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plant is photosynthes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ta open and close at different times of the 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it is light the plant needs CO2 for photosynthesis so the stoma 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night (darkness) they clo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pen and close at different times of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t is light the plant needs CO2 for photosynthesis so the stoma 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ight (darkness) the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s – function and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ld plant in 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 water and minerals from the 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ised cells to increase surface area for water inta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– function an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plant in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 water and minerals from the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sed cells to increase surface area for water int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at s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 hair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agile parts of cells that grow from the main 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massively increase the surface area for absorp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at s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ha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gile parts of cells that grow from the main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ssively increase the surface area for absorp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oot hair cells        (x15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hair cells        (x1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   ‘B’  has had the hairs damaged 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  ‘B’  has had the hairs damaged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unction of 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rap light energy for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roducing sugar from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xchange of gases –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xygen and carbon di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of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 light energy for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ing sugar from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hange of gases –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s to catch more light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 get carbon dioxide from bottom to top of leaf for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to catch more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get carbon dioxide from bottom to top of leaf for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er on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 gets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er on 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gets in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diagram – palisade 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chlorophy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diagram – palisad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f cell - palis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osi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Upper surface of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atur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ox sha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unc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cell - palis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surface of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 exch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ves are designed to allow carbon dioxide to get to the main chlorophyll layer at the top of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ve small holes called stomata on the under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hole is open &amp; closed by 2 guard cell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ex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are designed to allow carbon dioxide to get to the main chlorophyll layer at the top of the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small holes called stomata on the unde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hole is open &amp; closed by 2 guar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DD2-E9BF-4DA3-AA18-319B41F4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CAA-EA5E-4D9D-8D48-CF3963A9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E435-50A9-40D9-8E06-CFC6AB95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0562-9BCB-4CD4-A3CB-B6EEBA13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A1A5-3814-468B-BCC1-7C6FDADC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6880-B3E7-41F9-9F35-07B8FAFD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1008-50D2-49AE-A6E3-A59EFF8C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5818-912A-4B03-B746-2393151C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168C-1028-4CD4-B455-B631D3EA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2A8B-07BB-4EE4-B0CB-1A3807B4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4C45-9F18-42FB-AFAC-0678FB83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561-7587-4B42-BC2E-394DC8CD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0842-97F3-4850-8586-5A1D0A5B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B707-195A-4BE0-9BEE-485509C9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C3B3-C91A-4ED8-9B4D-2FB0BD47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38BB-EAF6-4E05-B55C-CEA00212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B129-C926-4FCE-A4F9-EFDC3214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4000-D7A1-4A50-8951-040E530C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F40-95BC-432A-8374-A838D6BD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7F52-BAC7-4417-983C-1F0A0C96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1DD-2662-4B0A-8516-AEA2360A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6FC2-B04F-4151-8166-2FB6F1BC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2FF5-4908-4ABC-8169-45DF00E4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C221-6444-47A8-BB66-79D08E43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B325-8A07-40F2-8B88-BB822D0156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4C53-1031-4E2C-9F59-2AB3BDA5059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Arial Black"/>
              </a:rPr>
              <a:t>Plant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920" y="24382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tructur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e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t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oo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flower gif"/>
          <p:cNvPicPr/>
          <p:nvPr/>
        </p:nvPicPr>
        <p:blipFill>
          <a:blip r:embed="rId1"/>
          <a:stretch/>
        </p:blipFill>
        <p:spPr>
          <a:xfrm>
            <a:off x="4716360" y="476280"/>
            <a:ext cx="228600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daisy gif"/>
          <p:cNvPicPr/>
          <p:nvPr/>
        </p:nvPicPr>
        <p:blipFill>
          <a:blip r:embed="rId2"/>
          <a:stretch/>
        </p:blipFill>
        <p:spPr>
          <a:xfrm>
            <a:off x="6324480" y="3657600"/>
            <a:ext cx="172080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84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Leaf diagram – </a:t>
            </a:r>
            <a:br>
              <a:rPr sz="3600"/>
            </a:b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stoma and guard cell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3" descr="leaf section"/>
          <p:cNvPicPr/>
          <p:nvPr/>
        </p:nvPicPr>
        <p:blipFill>
          <a:blip r:embed="rId1"/>
          <a:stretch/>
        </p:blipFill>
        <p:spPr>
          <a:xfrm>
            <a:off x="755640" y="1413000"/>
            <a:ext cx="7570800" cy="5032080"/>
          </a:xfrm>
          <a:prstGeom prst="rect">
            <a:avLst/>
          </a:prstGeom>
          <a:ln w="0">
            <a:noFill/>
          </a:ln>
        </p:spPr>
      </p:pic>
      <p:sp>
        <p:nvSpPr>
          <p:cNvPr id="148" name="Line 4"/>
          <p:cNvSpPr/>
          <p:nvPr/>
        </p:nvSpPr>
        <p:spPr>
          <a:xfrm>
            <a:off x="6012000" y="4724280"/>
            <a:ext cx="0" cy="79236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toma pos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Picture 4" descr="leaf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49863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01680" y="314280"/>
            <a:ext cx="69804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Stoma is a small hol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Picture 4" descr="stomata closup"/>
          <p:cNvPicPr/>
          <p:nvPr/>
        </p:nvPicPr>
        <p:blipFill>
          <a:blip r:embed="rId1"/>
          <a:stretch/>
        </p:blipFill>
        <p:spPr>
          <a:xfrm>
            <a:off x="1692360" y="2133720"/>
            <a:ext cx="594360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1008000" y="981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ts size is controlled by 2 guard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484360" y="57340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lo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508720" y="5805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0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Stoma function is for gas exchange in the leaf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Picture 4" descr="STOMATA diag"/>
          <p:cNvPicPr/>
          <p:nvPr/>
        </p:nvPicPr>
        <p:blipFill>
          <a:blip r:embed="rId1"/>
          <a:stretch/>
        </p:blipFill>
        <p:spPr>
          <a:xfrm>
            <a:off x="900000" y="1484280"/>
            <a:ext cx="4873680" cy="4570560"/>
          </a:xfrm>
          <a:prstGeom prst="rect">
            <a:avLst/>
          </a:prstGeom>
          <a:ln w="0">
            <a:noFill/>
          </a:ln>
        </p:spPr>
      </p:pic>
      <p:sp>
        <p:nvSpPr>
          <p:cNvPr id="161" name="Line 5"/>
          <p:cNvSpPr/>
          <p:nvPr/>
        </p:nvSpPr>
        <p:spPr>
          <a:xfrm flipV="1">
            <a:off x="3492360" y="2421000"/>
            <a:ext cx="2664000" cy="1079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 flipH="1" flipV="1">
            <a:off x="3419640" y="4292280"/>
            <a:ext cx="2736720" cy="1152360"/>
          </a:xfrm>
          <a:prstGeom prst="line">
            <a:avLst/>
          </a:prstGeom>
          <a:ln w="101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372360" y="4724280"/>
            <a:ext cx="180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arbon di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300720" y="1916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900000" y="2133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uard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300720" y="3213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vided plant is photosynthesi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stomata open cloz"/>
          <p:cNvPicPr/>
          <p:nvPr/>
        </p:nvPicPr>
        <p:blipFill>
          <a:blip r:embed="rId1"/>
          <a:stretch/>
        </p:blipFill>
        <p:spPr>
          <a:xfrm>
            <a:off x="3276720" y="404640"/>
            <a:ext cx="5400720" cy="6048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250920" y="765000"/>
            <a:ext cx="295272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omata open and close at different times of the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it is light the plant needs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or photosynthesis so the stoma 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 night (darkness) they 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Gas exchan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2" name="Picture 4" descr="gas exchange plant diag"/>
          <p:cNvPicPr/>
          <p:nvPr/>
        </p:nvPicPr>
        <p:blipFill>
          <a:blip r:embed="rId1"/>
          <a:stretch/>
        </p:blipFill>
        <p:spPr>
          <a:xfrm>
            <a:off x="1295280" y="1436760"/>
            <a:ext cx="6782040" cy="44305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oots – function and 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632720" cy="33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old plant in po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bsorb water and minerals from the so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alised cells to increase surface area for water inta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33116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eat se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8" name="Picture 4" descr="root%20hair"/>
          <p:cNvPicPr/>
          <p:nvPr/>
        </p:nvPicPr>
        <p:blipFill>
          <a:blip r:embed="rId1"/>
          <a:stretch/>
        </p:blipFill>
        <p:spPr>
          <a:xfrm>
            <a:off x="3851280" y="404640"/>
            <a:ext cx="4956120" cy="6120000"/>
          </a:xfrm>
          <a:prstGeom prst="rect">
            <a:avLst/>
          </a:prstGeom>
          <a:ln w="0">
            <a:noFill/>
          </a:ln>
        </p:spPr>
      </p:pic>
      <p:sp>
        <p:nvSpPr>
          <p:cNvPr id="179" name="Line 7"/>
          <p:cNvSpPr/>
          <p:nvPr/>
        </p:nvSpPr>
        <p:spPr>
          <a:xfrm>
            <a:off x="3419640" y="2492280"/>
            <a:ext cx="1439640" cy="8654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39640" y="1989000"/>
            <a:ext cx="273708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oot hair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gile parts of cells that grow from the main r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massively increase the surface area for absorp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oot hair cells        </a:t>
            </a:r>
            <a:r>
              <a:rPr b="1" lang="en-GB" sz="2400" spc="-1" strike="noStrike">
                <a:solidFill>
                  <a:srgbClr val="ffffb7"/>
                </a:solidFill>
                <a:latin typeface="Arial Black"/>
              </a:rPr>
              <a:t>(x150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3" name="Picture 4" descr="root hairs"/>
          <p:cNvPicPr/>
          <p:nvPr/>
        </p:nvPicPr>
        <p:blipFill>
          <a:blip r:embed="rId1"/>
          <a:stretch/>
        </p:blipFill>
        <p:spPr>
          <a:xfrm>
            <a:off x="5867280" y="1268280"/>
            <a:ext cx="2766960" cy="4969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rroot hair"/>
          <p:cNvPicPr/>
          <p:nvPr/>
        </p:nvPicPr>
        <p:blipFill>
          <a:blip r:embed="rId2"/>
          <a:stretch/>
        </p:blipFill>
        <p:spPr>
          <a:xfrm>
            <a:off x="539640" y="1197000"/>
            <a:ext cx="5184720" cy="4968720"/>
          </a:xfrm>
          <a:prstGeom prst="rect">
            <a:avLst/>
          </a:prstGeom>
          <a:ln w="0">
            <a:noFill/>
          </a:ln>
        </p:spPr>
      </p:pic>
      <p:sp>
        <p:nvSpPr>
          <p:cNvPr id="185" name="Line 10"/>
          <p:cNvSpPr/>
          <p:nvPr/>
        </p:nvSpPr>
        <p:spPr>
          <a:xfrm>
            <a:off x="6659640" y="2924280"/>
            <a:ext cx="217440" cy="10094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 flipV="1">
            <a:off x="6300720" y="1773000"/>
            <a:ext cx="1008000" cy="36036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Picture 4" descr="rooy hair"/>
          <p:cNvPicPr/>
          <p:nvPr/>
        </p:nvPicPr>
        <p:blipFill>
          <a:blip r:embed="rId1"/>
          <a:stretch/>
        </p:blipFill>
        <p:spPr>
          <a:xfrm>
            <a:off x="3924360" y="549360"/>
            <a:ext cx="4957560" cy="5904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324000" y="191628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ot   ‘B’  has had the hairs damaged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Lea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4" descr="tree"/>
          <p:cNvPicPr/>
          <p:nvPr/>
        </p:nvPicPr>
        <p:blipFill>
          <a:blip r:embed="rId1"/>
          <a:stretch/>
        </p:blipFill>
        <p:spPr>
          <a:xfrm>
            <a:off x="324000" y="2060640"/>
            <a:ext cx="2447640" cy="226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leaves sycamore"/>
          <p:cNvPicPr/>
          <p:nvPr/>
        </p:nvPicPr>
        <p:blipFill>
          <a:blip r:embed="rId2"/>
          <a:stretch/>
        </p:blipFill>
        <p:spPr>
          <a:xfrm>
            <a:off x="3059280" y="2060640"/>
            <a:ext cx="5184720" cy="42339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3" name="Picture 4" descr="rootxs3"/>
          <p:cNvPicPr/>
          <p:nvPr/>
        </p:nvPicPr>
        <p:blipFill>
          <a:blip r:embed="rId1"/>
          <a:stretch/>
        </p:blipFill>
        <p:spPr>
          <a:xfrm>
            <a:off x="900000" y="836640"/>
            <a:ext cx="7704360" cy="53625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Function of lea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p light energy for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cing sugar from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hange of gases –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xygen and carbon di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4" descr="leaf ps"/>
          <p:cNvPicPr/>
          <p:nvPr/>
        </p:nvPicPr>
        <p:blipFill>
          <a:blip r:embed="rId1"/>
          <a:stretch/>
        </p:blipFill>
        <p:spPr>
          <a:xfrm>
            <a:off x="826920" y="260280"/>
            <a:ext cx="7848720" cy="63216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538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4" descr="leaf ps"/>
          <p:cNvPicPr/>
          <p:nvPr/>
        </p:nvPicPr>
        <p:blipFill>
          <a:blip r:embed="rId1"/>
          <a:stretch/>
        </p:blipFill>
        <p:spPr>
          <a:xfrm>
            <a:off x="4572000" y="692280"/>
            <a:ext cx="3960720" cy="532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395280" y="1484280"/>
            <a:ext cx="403236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elps to catch more light ener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elp get carbon dioxide from bottom to top of leaf for photosynthe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Leaf 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4" descr="leaf x section"/>
          <p:cNvPicPr/>
          <p:nvPr/>
        </p:nvPicPr>
        <p:blipFill>
          <a:blip r:embed="rId1"/>
          <a:stretch/>
        </p:blipFill>
        <p:spPr>
          <a:xfrm>
            <a:off x="609480" y="1219320"/>
            <a:ext cx="7848720" cy="4895640"/>
          </a:xfrm>
          <a:prstGeom prst="rect">
            <a:avLst/>
          </a:prstGeom>
          <a:ln w="0">
            <a:noFill/>
          </a:ln>
        </p:spPr>
      </p:pic>
      <p:sp>
        <p:nvSpPr>
          <p:cNvPr id="126" name="Line 5"/>
          <p:cNvSpPr/>
          <p:nvPr/>
        </p:nvSpPr>
        <p:spPr>
          <a:xfrm flipH="1">
            <a:off x="6156000" y="1989000"/>
            <a:ext cx="647640" cy="115272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443640" y="1484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er on 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H="1" flipV="1">
            <a:off x="6011640" y="5157360"/>
            <a:ext cx="647640" cy="57636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732720" y="5445000"/>
            <a:ext cx="165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gets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Leaf diagram – palisade layer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5" descr="leaf section"/>
          <p:cNvPicPr/>
          <p:nvPr/>
        </p:nvPicPr>
        <p:blipFill>
          <a:blip r:embed="rId1"/>
          <a:stretch/>
        </p:blipFill>
        <p:spPr>
          <a:xfrm>
            <a:off x="838080" y="990720"/>
            <a:ext cx="7848720" cy="5216400"/>
          </a:xfrm>
          <a:prstGeom prst="rect">
            <a:avLst/>
          </a:prstGeom>
          <a:ln w="0">
            <a:noFill/>
          </a:ln>
        </p:spPr>
      </p:pic>
      <p:sp>
        <p:nvSpPr>
          <p:cNvPr id="133" name="Line 6"/>
          <p:cNvSpPr/>
          <p:nvPr/>
        </p:nvSpPr>
        <p:spPr>
          <a:xfrm>
            <a:off x="2484360" y="2205000"/>
            <a:ext cx="936720" cy="0"/>
          </a:xfrm>
          <a:prstGeom prst="line">
            <a:avLst/>
          </a:prstGeom>
          <a:ln w="117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>
            <a:off x="5807160" y="4476600"/>
            <a:ext cx="841320" cy="1568520"/>
          </a:xfrm>
          <a:custGeom>
            <a:avLst/>
            <a:gdLst/>
            <a:ahLst/>
            <a:rect l="l" t="t" r="r" b="b"/>
            <a:pathLst>
              <a:path w="530" h="988">
                <a:moveTo>
                  <a:pt x="530" y="936"/>
                </a:moveTo>
                <a:cubicBezTo>
                  <a:pt x="452" y="988"/>
                  <a:pt x="438" y="970"/>
                  <a:pt x="326" y="960"/>
                </a:cubicBezTo>
                <a:cubicBezTo>
                  <a:pt x="314" y="956"/>
                  <a:pt x="302" y="951"/>
                  <a:pt x="290" y="948"/>
                </a:cubicBezTo>
                <a:cubicBezTo>
                  <a:pt x="274" y="943"/>
                  <a:pt x="258" y="941"/>
                  <a:pt x="242" y="936"/>
                </a:cubicBezTo>
                <a:cubicBezTo>
                  <a:pt x="218" y="929"/>
                  <a:pt x="170" y="912"/>
                  <a:pt x="170" y="912"/>
                </a:cubicBezTo>
                <a:cubicBezTo>
                  <a:pt x="132" y="855"/>
                  <a:pt x="151" y="890"/>
                  <a:pt x="122" y="804"/>
                </a:cubicBezTo>
                <a:cubicBezTo>
                  <a:pt x="118" y="792"/>
                  <a:pt x="114" y="780"/>
                  <a:pt x="110" y="768"/>
                </a:cubicBezTo>
                <a:cubicBezTo>
                  <a:pt x="106" y="756"/>
                  <a:pt x="98" y="732"/>
                  <a:pt x="98" y="732"/>
                </a:cubicBezTo>
                <a:cubicBezTo>
                  <a:pt x="102" y="688"/>
                  <a:pt x="102" y="644"/>
                  <a:pt x="110" y="600"/>
                </a:cubicBezTo>
                <a:cubicBezTo>
                  <a:pt x="114" y="575"/>
                  <a:pt x="134" y="528"/>
                  <a:pt x="134" y="528"/>
                </a:cubicBezTo>
                <a:cubicBezTo>
                  <a:pt x="130" y="456"/>
                  <a:pt x="131" y="384"/>
                  <a:pt x="122" y="312"/>
                </a:cubicBezTo>
                <a:cubicBezTo>
                  <a:pt x="106" y="181"/>
                  <a:pt x="93" y="297"/>
                  <a:pt x="50" y="168"/>
                </a:cubicBezTo>
                <a:cubicBezTo>
                  <a:pt x="33" y="118"/>
                  <a:pt x="45" y="143"/>
                  <a:pt x="14" y="96"/>
                </a:cubicBezTo>
                <a:cubicBezTo>
                  <a:pt x="0" y="24"/>
                  <a:pt x="2" y="56"/>
                  <a:pt x="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 flipH="1" flipV="1">
            <a:off x="5940000" y="4581000"/>
            <a:ext cx="144360" cy="1079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084720" y="5589720"/>
            <a:ext cx="172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826920" y="184464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ost chlorophy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Leaf cell - palisad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30243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osi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pper surface of lea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eatur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ox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loropl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unc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palisade cell"/>
          <p:cNvPicPr/>
          <p:nvPr/>
        </p:nvPicPr>
        <p:blipFill>
          <a:blip r:embed="rId1"/>
          <a:stretch/>
        </p:blipFill>
        <p:spPr>
          <a:xfrm>
            <a:off x="3505320" y="1219320"/>
            <a:ext cx="5181480" cy="510516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Gas exchang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ves are designed to allow carbon dioxide to get to the main chlorophyll layer at the top of the le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have small holes called stomata on the under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ch hole is open &amp; closed by 2 guard c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18:46:24Z</dcterms:created>
  <dc:creator>rik g</dc:creator>
  <dc:description/>
  <dc:language>en-US</dc:language>
  <cp:lastModifiedBy>LEGION2</cp:lastModifiedBy>
  <dcterms:modified xsi:type="dcterms:W3CDTF">2016-01-13T09:58:14Z</dcterms:modified>
  <cp:revision>24</cp:revision>
  <dc:subject/>
  <dc:title>Plants</dc:title>
</cp:coreProperties>
</file>